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66D-F156-42B0-96BD-A46287DD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247-46B3-4FC1-A438-57BE490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4FF-036A-462B-AFE8-2AB0B819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D12-F28D-4B00-BBC6-1D9C6D71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021-B177-4BCB-9969-3B3C9196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446-8F5F-410C-B0DD-995BFC9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83E-06DA-4A82-9E12-98D0529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0F4-D4B0-445C-A220-44A3A69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3BF-9E23-43D4-9850-13A9225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66C-60FE-4D50-8BD9-642AD582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72A-1E20-45AF-B2F6-FA861DB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EA4-C3E3-452C-BD99-B96ECDF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CCC2-68A9-4AB0-90A0-E60C030CF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1066680"/>
            <a:ext cx="830592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Cooper Black"/>
              </a:rPr>
              <a:t>The Life Cycle of Ferns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688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895480" y="2057400"/>
            <a:ext cx="137160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0880" y="18288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mbryo begins to grow from the fertiliz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0760" y="609480"/>
            <a:ext cx="6476760" cy="5805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80880" y="5335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young sporophyte fern soon develo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91120" y="1066680"/>
            <a:ext cx="533160" cy="60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2362320" y="1371600"/>
            <a:ext cx="19047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0760" y="609480"/>
            <a:ext cx="6476760" cy="5805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038480" y="1523880"/>
            <a:ext cx="1295640" cy="533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4572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hal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ametophyte) will shr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590920" y="914400"/>
            <a:ext cx="20574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486400" y="914400"/>
            <a:ext cx="167652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ure fern plant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it will produce the sp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2209680" y="1600200"/>
            <a:ext cx="434340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010280" y="914400"/>
            <a:ext cx="175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underside of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ows of small dot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r -e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4280" y="1295280"/>
            <a:ext cx="1371600" cy="1067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5866920" y="1371600"/>
            <a:ext cx="121932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105520" y="2971800"/>
            <a:ext cx="990360" cy="914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477120" y="609480"/>
            <a:ext cx="19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the sori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res are produc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5943600" y="2438280"/>
            <a:ext cx="182880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105520" y="4114800"/>
            <a:ext cx="68580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934320" y="34290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ores are eventually released into the air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ersed by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5638320" y="4267080"/>
            <a:ext cx="129564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553080" y="304920"/>
            <a:ext cx="1981440" cy="3020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ccffcc"/>
              </a:gs>
              <a:gs pos="100000">
                <a:srgbClr val="00ff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favorable condition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isture, light,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pores germ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477120" y="365760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inating spore forms a small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art-sha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hal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n gamet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3352320" y="5333760"/>
            <a:ext cx="3429000" cy="228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58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04920" y="25146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thallus contains mal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heri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amp; femal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gon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1752480" y="3657600"/>
            <a:ext cx="2514600" cy="304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905120" y="4419720"/>
            <a:ext cx="1676160" cy="53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34120" y="4267080"/>
            <a:ext cx="53316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572000" y="4724280"/>
            <a:ext cx="53352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66680" y="5670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rm from the antheridium swim through water to find mature eggs. Ferns are dependent on water being present for sexual re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the details for each step in the Life Cycle of Fern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819520" y="1143000"/>
            <a:ext cx="6324480" cy="566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22:47:39Z</dcterms:created>
  <dc:creator>Student</dc:creator>
  <dc:description/>
  <dc:language>en-US</dc:language>
  <cp:lastModifiedBy>Jillian Boisse</cp:lastModifiedBy>
  <dcterms:modified xsi:type="dcterms:W3CDTF">2014-10-01T15:16:22Z</dcterms:modified>
  <cp:revision>9</cp:revision>
  <dc:subject/>
  <dc:title>No Slide Title</dc:title>
</cp:coreProperties>
</file>